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19EA0-C05E-445F-A3D5-B27051798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95F3-24B4-4FB3-BC0D-8E1DC4DF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BF6EB-01C7-4B4D-9F63-86579B64F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B654-4FCB-4A7B-9D0B-AD29D9561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5057-418E-457A-9DB2-3BE95B725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09303-A8DE-4E7C-ABDF-BBAF642B2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26A8-5078-46DA-B55B-9EBF2ADC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34F77-9015-41DA-A925-BC003BB7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45557-A21D-40E9-B8B6-EF57A99EE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DF4E-64A9-4F45-80DC-0F6F63C2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E040D-054B-498C-9AFA-2CB62EA8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1AAC2-6FF2-4AF1-8EAB-986F88925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04A2A-77C2-4BDD-B3F7-AA99C8D3675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15D03-384D-42B9-8DA7-66548D00C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ff4b">
            <a:alpha val="7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90720"/>
            <a:ext cx="7772400" cy="3633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2387"/>
                </a:solidFill>
                <a:latin typeface="Apple Chancery"/>
                <a:ea typeface="Apple Chancery"/>
              </a:rPr>
              <a:t>Rabbi Yochanan ben Zakkai!!</a:t>
            </a:r>
            <a:br>
              <a:rPr sz="4400"/>
            </a:br>
            <a:r>
              <a:rPr b="0" lang="en-US" sz="4400" spc="-1" strike="noStrike">
                <a:solidFill>
                  <a:srgbClr val="008000"/>
                </a:solidFill>
                <a:latin typeface="Apple Chancery"/>
                <a:ea typeface="Apple Chancery"/>
              </a:rPr>
              <a:t>______________________</a:t>
            </a:r>
            <a:br>
              <a:rPr sz="4400"/>
            </a:b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066320" y="3886200"/>
            <a:ext cx="7239240" cy="1752480"/>
          </a:xfrm>
          <a:prstGeom prst="rect">
            <a:avLst/>
          </a:prstGeom>
          <a:noFill/>
          <a:ln w="0">
            <a:noFill/>
          </a:ln>
        </p:spPr>
        <p:txBody>
          <a:bodyPr anchor="t">
            <a:noAutofit/>
          </a:bodyPr>
          <a:p>
            <a:pPr indent="0" algn="ctr">
              <a:lnSpc>
                <a:spcPct val="100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66ff"/>
                </a:solidFill>
                <a:latin typeface="Andale Mono"/>
                <a:ea typeface="Andale Mono"/>
              </a:rPr>
              <a:t>*</a:t>
            </a:r>
            <a:r>
              <a:rPr b="0" lang="en-US" sz="4200" spc="-1" strike="noStrike">
                <a:solidFill>
                  <a:srgbClr val="3366ff"/>
                </a:solidFill>
                <a:latin typeface="Andale Mono"/>
                <a:ea typeface="Andale Mono"/>
              </a:rPr>
              <a:t>Why was he so great??</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ee8">
            <a:alpha val="60000"/>
          </a:srgbClr>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t>
            </a:r>
            <a:r>
              <a:rPr b="0" lang="en-US" sz="5400" spc="-1" strike="noStrike">
                <a:solidFill>
                  <a:srgbClr val="800000"/>
                </a:solidFill>
                <a:latin typeface="Bauhaus 93"/>
                <a:ea typeface="Bauhaus 93"/>
              </a:rPr>
              <a:t>Who???</a:t>
            </a:r>
            <a:br>
              <a:rPr sz="5400"/>
            </a:br>
            <a:endParaRPr b="0" lang="en-US" sz="5400" spc="-1" strike="noStrike">
              <a:solidFill>
                <a:srgbClr val="000000"/>
              </a:solidFill>
              <a:latin typeface="Calibri"/>
            </a:endParaRPr>
          </a:p>
        </p:txBody>
      </p:sp>
      <p:sp>
        <p:nvSpPr>
          <p:cNvPr id="44" name=""/>
          <p:cNvSpPr txBox="1"/>
          <p:nvPr/>
        </p:nvSpPr>
        <p:spPr>
          <a:xfrm>
            <a:off x="457200" y="1417320"/>
            <a:ext cx="8229600" cy="5288040"/>
          </a:xfrm>
          <a:prstGeom prst="rect">
            <a:avLst/>
          </a:prstGeom>
          <a:noFill/>
          <a:ln w="0">
            <a:noFill/>
          </a:ln>
        </p:spPr>
        <p:txBody>
          <a:bodyPr anchor="t">
            <a:normAutofit/>
          </a:bodyPr>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Rabbi Yochanan ben Zakkai, the greatest Jewish sage of the time, (and Bnei Yisroel) and Emporer Vespasian (and the Romans).</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So, as war with the Romans broke out, the Jews were not all on the same page.  One group of Jews, named the Pharisees, only wanted to live peacefully, so they could study and transmit the Torah (this group was mainly rabbis…Rabbi Yochanan included). Others, the Saducees, wanted to become allied with the Romans. Some Jews, called the Zealots, wanted all-out war. They were unhappy with the Sages’ idea that proposed sending a peace-treaty to the Romans. Wanting to force the Jews to fight and NOT create a peace treaty, they imposed the siege on Jerusalem (that the Romans had already made) not letting their fellow Jews in or out.</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a:t>
            </a:r>
            <a:r>
              <a:rPr b="0" lang="en-US" sz="1800" spc="-1" strike="noStrike">
                <a:solidFill>
                  <a:srgbClr val="ff6600"/>
                </a:solidFill>
                <a:latin typeface="Constantia"/>
                <a:ea typeface="Constantia"/>
              </a:rPr>
              <a:t>and what did the Romans want? Well, as Rabbi Yochanan ben Zakkai said himself: “They enforce the siege and wait patiently while brothers destroy brothers.”</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And the leader of the Romans? Well, in the beginning, the Emporer was Emporer Nero, but he died in the middle of the destruction and his army general, Vespasian, soon took his pla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52">
            <a:alpha val="69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0066"/>
                </a:solidFill>
                <a:latin typeface="American Typewriter"/>
                <a:ea typeface="American Typewriter"/>
              </a:rPr>
              <a:t>Continuing on WHO… </a:t>
            </a:r>
            <a:endParaRPr b="0" lang="en-US" sz="4400" spc="-1" strike="noStrike">
              <a:solidFill>
                <a:srgbClr val="000000"/>
              </a:solidFill>
              <a:latin typeface="Calibri"/>
            </a:endParaRPr>
          </a:p>
        </p:txBody>
      </p:sp>
      <p:sp>
        <p:nvSpPr>
          <p:cNvPr id="46" name=""/>
          <p:cNvSpPr txBox="1"/>
          <p:nvPr/>
        </p:nvSpPr>
        <p:spPr>
          <a:xfrm>
            <a:off x="457200" y="129492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66ff"/>
                </a:solidFill>
                <a:latin typeface="Baskerville Old Face"/>
                <a:ea typeface="Baskerville Old Face"/>
              </a:rPr>
              <a:t>Rabbi Yochanan ben Zaikki:       Emporer Vespasian:</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pic>
        <p:nvPicPr>
          <p:cNvPr id="47" name="Picture 5" descr="vespasian.jpg"/>
          <p:cNvPicPr/>
          <p:nvPr/>
        </p:nvPicPr>
        <p:blipFill>
          <a:blip r:embed="rId1"/>
          <a:stretch/>
        </p:blipFill>
        <p:spPr>
          <a:xfrm>
            <a:off x="5410080" y="2438280"/>
            <a:ext cx="1981440" cy="1717920"/>
          </a:xfrm>
          <a:prstGeom prst="rect">
            <a:avLst/>
          </a:prstGeom>
          <a:ln w="0">
            <a:noFill/>
          </a:ln>
        </p:spPr>
      </p:pic>
      <p:pic>
        <p:nvPicPr>
          <p:cNvPr id="48" name="Picture 6" descr="RomanBronzePortraitEmperorVespasianX0147.jpg"/>
          <p:cNvPicPr/>
          <p:nvPr/>
        </p:nvPicPr>
        <p:blipFill>
          <a:blip r:embed="rId2"/>
          <a:stretch/>
        </p:blipFill>
        <p:spPr>
          <a:xfrm>
            <a:off x="5562720" y="4295880"/>
            <a:ext cx="2057400" cy="2057400"/>
          </a:xfrm>
          <a:prstGeom prst="rect">
            <a:avLst/>
          </a:prstGeom>
          <a:ln w="0">
            <a:noFill/>
          </a:ln>
        </p:spPr>
      </p:pic>
      <p:pic>
        <p:nvPicPr>
          <p:cNvPr id="49" name="Picture 7" descr="Rabbi-drawing-150x150.jpg"/>
          <p:cNvPicPr/>
          <p:nvPr/>
        </p:nvPicPr>
        <p:blipFill>
          <a:blip r:embed="rId3"/>
          <a:stretch/>
        </p:blipFill>
        <p:spPr>
          <a:xfrm>
            <a:off x="1371600" y="28195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9000"/>
          </a:srgbClr>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8d045"/>
                </a:solidFill>
                <a:latin typeface="Arial Rounded MT Bold"/>
                <a:ea typeface="Arial Rounded MT Bold"/>
              </a:rPr>
              <a:t>WHAT happened-</a:t>
            </a:r>
            <a:endParaRPr b="0" lang="en-US" sz="4400" spc="-1" strike="noStrike">
              <a:solidFill>
                <a:srgbClr val="000000"/>
              </a:solidFill>
              <a:latin typeface="Calibri"/>
            </a:endParaRPr>
          </a:p>
        </p:txBody>
      </p:sp>
      <p:sp>
        <p:nvSpPr>
          <p:cNvPr id="51" name=""/>
          <p:cNvSpPr txBox="1"/>
          <p:nvPr/>
        </p:nvSpPr>
        <p:spPr>
          <a:xfrm>
            <a:off x="457200" y="1143000"/>
            <a:ext cx="8229600" cy="5410080"/>
          </a:xfrm>
          <a:prstGeom prst="rect">
            <a:avLst/>
          </a:prstGeom>
          <a:no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Basically, there was a Roman siege over Jerusalem, and the Jewish people were split, fighting amongst themselves. Rabbi Yochanan ben Zakkai, the greatest sage of his time, figured out a plan with his students on how he could stop this madness. He faked his death so that he could be carried OUT of the city to be buried, despite the blockade. His students (Rabbi Eliezer and Rabbi Yehoshhua) carried his coffin to the gates . One of the Roman guards, though, insisted on making sure that the Rabbi was really dead. As he lifted his sword preparing to stab the body, his students argued back: “The Romans will say that the guards violated a body and thereby disgraced their revered master!”</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a:t>
            </a:r>
            <a:r>
              <a:rPr b="0" lang="en-US" sz="1700" spc="-1" strike="noStrike">
                <a:solidFill>
                  <a:srgbClr val="604a7b"/>
                </a:solidFill>
                <a:latin typeface="Calibri"/>
              </a:rPr>
              <a:t>they got away. </a:t>
            </a:r>
            <a:r>
              <a:rPr b="0" lang="en-US" sz="1700" spc="-1" strike="noStrike">
                <a:solidFill>
                  <a:srgbClr val="604a7b"/>
                </a:solidFill>
                <a:latin typeface="Wingdings"/>
                <a:ea typeface="Wingdings"/>
              </a:rPr>
              <a:t></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One they got out of the gates and out of sight, Rabbi Yochanan ran towards the Roman camp. He demanded the guards let him see (at the time) GENREAL Vespasian. When he entered the room, he addressed Vespasian as “Your Majesty.”</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The General answered back that the Rabbi is deserving of death: he is not the emperor, only his general.</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At that moment, a guard ran in and informed Vespasian that Emperor Nero had just died in battle and he has been appointed the new Roman emperor.</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900" spc="-1" strike="noStrike">
                <a:solidFill>
                  <a:srgbClr val="58d045"/>
                </a:solidFill>
                <a:latin typeface="Abadi MT Condensed Extra Bold"/>
                <a:ea typeface="Abadi MT Condensed Extra Bold"/>
              </a:rPr>
              <a:t>DUN DUN DU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cff">
            <a:alpha val="97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0000"/>
                </a:solidFill>
                <a:latin typeface="Abadi MT Condensed Extra Bold"/>
                <a:ea typeface="Abadi MT Condensed Extra Bold"/>
              </a:rPr>
              <a:t>Continuing on WHAT…</a:t>
            </a:r>
            <a:endParaRPr b="0" lang="en-US" sz="5000" spc="-1" strike="noStrike">
              <a:solidFill>
                <a:srgbClr val="000000"/>
              </a:solidFill>
              <a:latin typeface="Calibri"/>
            </a:endParaRPr>
          </a:p>
        </p:txBody>
      </p:sp>
      <p:sp>
        <p:nvSpPr>
          <p:cNvPr id="53" name=""/>
          <p:cNvSpPr txBox="1"/>
          <p:nvPr/>
        </p:nvSpPr>
        <p:spPr>
          <a:xfrm>
            <a:off x="457200" y="1294920"/>
            <a:ext cx="8229600" cy="5257800"/>
          </a:xfrm>
          <a:prstGeom prst="rect">
            <a:avLst/>
          </a:prstGeom>
          <a:noFill/>
          <a:ln w="0">
            <a:noFill/>
          </a:ln>
        </p:spPr>
        <p:txBody>
          <a:bodyPr anchor="t">
            <a:normAutofit/>
          </a:bodyPr>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Vespasian was so impressed with Rabbi Yochanan’s wisdom, that he granted him three wishe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He chose:</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a) that the family of Rabbi Shimon ben Gamaliel be spared.</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b) that Rabbi Tzadok who was extremely sick get medical attention/help…(he was fasting for 40 days!!!)</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c) that he spare the town of Yavne  (so that the Jews could still learn Torah) which would become the new home of the Sanhedrin.</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By this last wish, Rabbi Yochanan ben Zakkai ensured Jewish scholarship after the fall of Jerusalem. Even though they would no longer have a Temple or a homeland, the Jews would always have a spiritual place in which they could learn and practice the Torah.</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People ask why didn’t he ask the emperor to spare Jerusalem altogether??</a:t>
            </a:r>
            <a:endParaRPr b="0" lang="en-US" sz="20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The Talmud answers this question, saying that he he knew this would never happen.</a:t>
            </a:r>
            <a:endParaRPr b="0" lang="en-US" sz="20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The Talmud Yerushalmi says that he did indeed ask, but he was ref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afff">
            <a:alpha val="66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f17d6"/>
                </a:solidFill>
                <a:latin typeface="Apple Chancery"/>
                <a:ea typeface="Apple Chancery"/>
              </a:rPr>
              <a:t>WHEN-</a:t>
            </a:r>
            <a:endParaRPr b="0" lang="en-US" sz="5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the time of the destruction of the Second Temple, 70 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ff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2387"/>
                </a:solidFill>
                <a:latin typeface="Calibri"/>
              </a:rPr>
              <a:t>Now……</a:t>
            </a:r>
            <a:endParaRPr b="0" lang="en-US" sz="5400" spc="-1" strike="noStrike">
              <a:solidFill>
                <a:srgbClr val="000000"/>
              </a:solidFill>
              <a:latin typeface="Calibri"/>
            </a:endParaRPr>
          </a:p>
        </p:txBody>
      </p:sp>
      <p:sp>
        <p:nvSpPr>
          <p:cNvPr id="57" name=""/>
          <p:cNvSpPr txBox="1"/>
          <p:nvPr/>
        </p:nvSpPr>
        <p:spPr>
          <a:xfrm>
            <a:off x="1219320" y="141768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0" spc="-1" strike="noStrike">
              <a:solidFill>
                <a:srgbClr val="000000"/>
              </a:solidFill>
              <a:latin typeface="Calibri"/>
            </a:endParaRPr>
          </a:p>
          <a:p>
            <a:pPr marL="343080" indent="-343080">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7a2ed0"/>
                </a:solidFill>
                <a:latin typeface="Calibri"/>
              </a:rPr>
              <a:t>QUIZ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0:11:41Z</dcterms:created>
  <dc:creator>Sarah</dc:creator>
  <dc:description/>
  <dc:language>en-US</dc:language>
  <cp:lastModifiedBy>Sarah</cp:lastModifiedBy>
  <dcterms:modified xsi:type="dcterms:W3CDTF">2010-10-12T01:00:04Z</dcterms:modified>
  <cp:revision>26</cp:revision>
  <dc:subject/>
  <dc:title>Rabbi Yochanan ben Zakkai!! ______________________  </dc:title>
</cp:coreProperties>
</file>